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86B1-F72D-4BDA-B6E3-4D34C5513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A839-C98E-4F08-BCF6-AA211F0C83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 Artic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ifelphilosoph.blog.de/2011/07/17/hungersnot-deutschland-1149240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as-war-wann.de/1700/1770/177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richard-sautmann.suite101.de/steckruebenwinter-im-ersten-weltkrieg-a625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70D-2FF3-43D3-9AB1-3513467B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1A3-64DB-42AD-8ED6-1D8F6B04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DCB7-B891-43DA-98F7-49E90EAE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7240-8570-4ACC-BDD0-C2723427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CC74-03CE-4538-92E3-4AF16008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8BA3-0A16-48AC-9E14-6C6CC39A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6867-2F7E-4D2A-84B2-0DC7E034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46CC-F855-4CF0-95AB-27CA3B1E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4577-2BE2-4334-8E7C-5994CDE7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D56F-43B3-4DE9-A1FB-2EAC1998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A9D9-E39C-4C99-A076-06F352EB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D8C-821C-411F-9263-B432EF08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6894-F71D-46CB-BDE5-D21C36F6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713D-5160-45A7-B018-9B7D7AEA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B0C6-1F05-480C-8C21-F585E222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3895-20FA-4704-BC23-3781F6EB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B64B-AFCD-4607-A3D5-BCD0E009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946F-5DA1-48A3-94B4-C17E3D58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1E4-4E5D-4879-81F2-4EF5661B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3B4-31A0-4813-B0C5-D19443B2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FC46-C8EB-4257-B3A0-B1A7BC54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DCFB-A91B-4EF0-AF6F-D7056E29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89C-42B4-40A4-8329-2AD2A76C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95EB-7FF8-426C-AED1-4CE53B98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A522-A182-4BA2-A14F-3679E6C6BC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E9C1-A09A-4181-AC19-04962D635F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sf.gov/news/speeches/colwell/rc03_usda/sld014.htm" TargetMode="External"/><Relationship Id="rId2" Type="http://schemas.openxmlformats.org/officeDocument/2006/relationships/hyperlink" Target="http://www.promethea.org/Misc_Compositions/FightingFutureWar/TheEffectsofWa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Economic Issues in German Speaking Countrie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Famin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Rebecca Ki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llust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.nsf.gov/news/speeches/colwell/rc03_usda/sld014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http://www.promethea.org/Misc_Compositions/FightingFutureWar/TheEffectsofWar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germanfood.about.com/b/2011/04/24/did-the-potato-famine-affect-germany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wintersonnenwende.com/scriptorium/english/archives/articles/starvation1919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query.nytimes.com/gst/abstract.html?res=F60E10F93F5D147A93C3A81782D85F4C8185F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query.nytimes.com/mem/archive-free/pdf?res=F60E10F93F5D147A93C3A81782D85F4C8185F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492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urce 1: Did the Potato Famine Affect German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rish potato famine 1846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uring WW1, the potato blight fungu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700,000 Germans dea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pper sulfate could stop the famin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UT copper sulfate was used for military us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gure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otato Fungu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http://www.nsf.gov/news/speeches/colwell/rc03_usda/img014.jpg"/>
          <p:cNvPicPr/>
          <p:nvPr/>
        </p:nvPicPr>
        <p:blipFill>
          <a:blip r:embed="rId1"/>
          <a:stretch/>
        </p:blipFill>
        <p:spPr>
          <a:xfrm>
            <a:off x="3809880" y="2133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Source 2: Hidden Historical Fact: The Allied Attempt to Starve Germany in 1919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ictors of WW1 continued blockade of German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900,000 German were starving to deat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rime of starvation were cover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eople went through garbage for foo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airy cows were taken awa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gure 2: Germany’s Children are Starv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y Käthe Kollwitz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4812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urce 3: No Famine in German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read riot might happen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fugees increas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ups and rebellions against military oligarch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Germany last much longe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ditions were better in rur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gure 3: German cemet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http://www.promethea.org/Misc_Compositions/FightingFutureWar/GermanCemetaryBethune.jpg"/>
          <p:cNvPicPr/>
          <p:nvPr/>
        </p:nvPicPr>
        <p:blipFill>
          <a:blip r:embed="rId1"/>
          <a:stretch/>
        </p:blipFill>
        <p:spPr>
          <a:xfrm>
            <a:off x="1371600" y="1905120"/>
            <a:ext cx="643896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 What crop was affected during both famine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 What was the cause of second famine in Germany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 Potat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 World War 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53:06Z</dcterms:created>
  <dc:creator>SCSadmin</dc:creator>
  <dc:description/>
  <dc:language>en-US</dc:language>
  <cp:lastModifiedBy>SCSadmin</cp:lastModifiedBy>
  <dcterms:modified xsi:type="dcterms:W3CDTF">2012-03-28T16:11:38Z</dcterms:modified>
  <cp:revision>20</cp:revision>
  <dc:subject/>
  <dc:title>Slide 1</dc:title>
</cp:coreProperties>
</file>